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4A0-98D0-42F9-AD30-D10FEB08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A82-EF8E-4BCF-B0D3-66CA7441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BC3-2793-435D-B140-D365655C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3A7D-1C07-4183-9EC5-FA29A97F4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7BB-BCB1-4A6A-BCB3-6BD4DD49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44F-AF9C-4D7F-83F2-3D3A4B04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57F-342B-40EE-8541-738CEF27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36D2-14E7-4913-A75A-A1CABC48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919-8389-4BFD-BA15-C0A37F05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9336-8300-4098-B5E9-832A80C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39C-E7D8-4433-96FE-31FCB71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1CA-E135-4FDB-81D2-8FDA7BE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A7F7-9A0A-4192-B98E-AF8FD673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92144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Welcome back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Jan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192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457200" y="1925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1925640"/>
          <a:ext cx="9144000" cy="319104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2880"/>
                <a:gridCol w="1714680"/>
                <a:gridCol w="1714320"/>
                <a:gridCol w="573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IRST DAY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: Camb exam sign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Dept mt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 –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assessed less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Mixed Abilities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VYL Storytelling (J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ST Feedback (E&amp;Y, Sermergen, Cy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arents’ E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arents’ Ev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1547640" y="314172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Febru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457200" y="1574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233280" y="13921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66840" y="3105000"/>
            <a:ext cx="6219720" cy="0"/>
          </a:xfrm>
          <a:prstGeom prst="line">
            <a:avLst/>
          </a:prstGeom>
          <a:ln cap="rnd"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6360" y="1628640"/>
          <a:ext cx="9144000" cy="4073760"/>
        </p:xfrm>
        <a:graphic>
          <a:graphicData uri="http://schemas.openxmlformats.org/drawingml/2006/table">
            <a:tbl>
              <a:tblPr/>
              <a:tblGrid>
                <a:gridCol w="1839960"/>
                <a:gridCol w="1843200"/>
                <a:gridCol w="1839600"/>
                <a:gridCol w="1843200"/>
                <a:gridCol w="1284480"/>
                <a:gridCol w="493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BL-1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BL-2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H And. DoS Mtg - Cad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 –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 assessed les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1+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exical App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Extensive exams-Day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Day off – Andalucía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619280" y="35733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rm 2 - M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457200" y="10587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457200" y="9669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1677960"/>
          <a:ext cx="9036000" cy="4559400"/>
        </p:xfrm>
        <a:graphic>
          <a:graphicData uri="http://schemas.openxmlformats.org/drawingml/2006/table">
            <a:tbl>
              <a:tblPr/>
              <a:tblGrid>
                <a:gridCol w="1386360"/>
                <a:gridCol w="1851480"/>
                <a:gridCol w="1843200"/>
                <a:gridCol w="1428840"/>
                <a:gridCol w="1708920"/>
                <a:gridCol w="817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FC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Common Spanish Errors (Mik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-Exam intens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FC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YL-Games n YL Classroom (Clai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CE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Tes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ET/CA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PET/CAE Exam Pr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Conference practice ses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AE/PET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Abener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Jóvenes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No TD se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H And. Con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 Exam-Day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 Exam-Day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evel Recommen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Intensives-Final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*Last day of ter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0684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 2 TD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 for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D in clic &amp;/or for the IH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vidual or sh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to 1 1/2 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get paid for it!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titles by T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D plan sent out T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844640"/>
            <a:ext cx="691200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w offic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D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ptops / 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WB p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E/CAE Exam book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ltimedia Room /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taff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844640"/>
            <a:ext cx="691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rah/Ceri/Janneke/Su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6320" y="9079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8560" y="191628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1844640"/>
            <a:ext cx="6696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Do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g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1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H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cMillan Online Ca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be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by, Mark, Patrick, Blue, Sandra, James, Elena, Tim, Trish, Rob S, Laura, Lucy, Joanna, Ollie, Bernie, Ia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2-01-13T12:00:35Z</dcterms:modified>
  <cp:revision>125</cp:revision>
  <dc:subject/>
  <dc:title>Diapositiva 1</dc:title>
</cp:coreProperties>
</file>